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media/zapbig0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9DB-3843-41CF-91B0-25D949B9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4DA-09B5-4781-81C6-027323A7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23C-CABF-408F-9674-A7E9B878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8F9-7C05-4127-B0C0-9F1D1BC7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D4A-F2EE-4982-ACB6-1F718A25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44F-5161-4504-BD30-DFF3B0AD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61D-88B3-4D6B-8639-8DAC9169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CFE-8959-431B-9ED2-D1D24AC2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24D-C441-47F7-9C3D-B90EB2AF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7A5-1465-4A0F-81B2-A193C344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D4F-21D7-4385-A210-AD0FF1A8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256-09DB-43A0-B63A-89B4F052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F969-9EAA-49A2-83C5-06A7D4E14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mpare. Use &gt;, &lt;, or = for     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23720" y="1620720"/>
                <a:ext cx="130824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587920" y="754200"/>
            <a:ext cx="522360" cy="52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757600" y="1628640"/>
                <a:ext cx="63000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00360" y="2092320"/>
            <a:ext cx="79668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87920" y="1639800"/>
            <a:ext cx="505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If the denominators are the same, simply compare the numer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795320" y="2098800"/>
                <a:ext cx="7779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2680" y="3951360"/>
                <a:ext cx="140472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787480" y="3959280"/>
                <a:ext cx="5828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1806480" y="4422600"/>
            <a:ext cx="79704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01800" y="4429080"/>
                <a:ext cx="7779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2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mpare. Use &gt;, &lt;, or = for     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99960" y="1616040"/>
                <a:ext cx="135576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87920" y="754200"/>
            <a:ext cx="522360" cy="52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57600" y="1628640"/>
                <a:ext cx="63000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800360" y="2092320"/>
            <a:ext cx="79668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87920" y="1320840"/>
            <a:ext cx="535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f the denominators are not the same, get a common denominator by multiplying the denominators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00240" y="2633760"/>
                <a:ext cx="534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7440" y="2644920"/>
                <a:ext cx="485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050920" y="3575160"/>
                <a:ext cx="4892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29000" y="3471840"/>
                <a:ext cx="1027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30400" y="4357800"/>
                <a:ext cx="581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719440" y="4351320"/>
                <a:ext cx="581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1836720" y="4754520"/>
            <a:ext cx="79704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87920" y="4491000"/>
            <a:ext cx="535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Multiply the other denominator by the original numerator to get new num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18240" y="3276720"/>
            <a:ext cx="432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s is the new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800440" y="2635200"/>
                <a:ext cx="728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185840" y="4529160"/>
                <a:ext cx="4888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187280" y="2622600"/>
                <a:ext cx="777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36720" y="4530600"/>
                <a:ext cx="5382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43200" y="4762440"/>
                <a:ext cx="7776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208400" y="603720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n compare num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animMotion origin="layout" path="M -2.5E-006 -2.42775E-006 L -2.5E-006 0.12694 E">
                                      <p:cBhvr>
                                        <p:cTn id="8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animMotion origin="layout" path="M 0.0007 -0.00046 L -0.00086 0.11561 E">
                                      <p:cBhvr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animMotion origin="layout" path="M 3.05556E-006 -3.00578E-006 L -0.2349 -0.13942 E">
                                      <p:cBhvr>
                                        <p:cTn id="1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animMotion origin="layout" path="M 4.16667E-006 4.91329E-006 L 0.10486 -0.12671 E">
                                      <p:cBhvr>
                                        <p:cTn id="13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mpare. Use &gt;, &lt;, or = for     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76200" y="1616040"/>
                <a:ext cx="140508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5587920" y="754200"/>
            <a:ext cx="522360" cy="52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57600" y="1628640"/>
                <a:ext cx="63000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800360" y="2092320"/>
            <a:ext cx="79668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87920" y="1320840"/>
            <a:ext cx="535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f the denominators are not the same, get a common denominator by multiplying the denominators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187280" y="2619360"/>
                <a:ext cx="5353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27440" y="2644920"/>
                <a:ext cx="485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050920" y="3575160"/>
                <a:ext cx="4892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90840" y="3444840"/>
                <a:ext cx="13701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880920" y="4344840"/>
                <a:ext cx="92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55720" y="4351320"/>
                <a:ext cx="92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836720" y="4754520"/>
            <a:ext cx="79704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7920" y="4491000"/>
            <a:ext cx="535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Multiply the other denominator by the original numerator to get new num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8240" y="3276720"/>
            <a:ext cx="432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s is the new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825640" y="2646360"/>
                <a:ext cx="728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23760" y="4567320"/>
                <a:ext cx="8794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79360" y="2622600"/>
                <a:ext cx="777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4640" y="4533840"/>
                <a:ext cx="7844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43200" y="4762440"/>
                <a:ext cx="7776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208400" y="603720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n compare num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animMotion origin="layout" path="M -2.5E-006 -2.42775E-006 L -2.5E-006 0.12694 E">
                                      <p:cBhvr>
                                        <p:cTn id="18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animMotion origin="layout" path="M 0.0007 -0.00046 L -0.00086 0.11561 E">
                                      <p:cBhvr>
                                        <p:cTn id="19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animMotion origin="layout" path="M 3.05556E-006 -3.00578E-006 L -0.2349 -0.13942 E">
                                      <p:cBhvr>
                                        <p:cTn id="22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animMotion origin="layout" path="M 4.16667E-006 4.91329E-006 L 0.10486 -0.12671 E">
                                      <p:cBhvr>
                                        <p:cTn id="23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rite a decimal for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353960"/>
                <a:ext cx="193680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52920" y="169056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Hundredths means 2 decimal pla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81000" y="3075120"/>
                <a:ext cx="1462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74760" y="4092480"/>
                <a:ext cx="203364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701880" y="442908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enths means 1 decimal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97000" y="5829480"/>
                <a:ext cx="1096920" cy="78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rite a decimal for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95200" y="1382760"/>
                <a:ext cx="232416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652920" y="169056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Hundredths means 2 decimal pla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11320" y="3176640"/>
                <a:ext cx="1461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82480" y="4048200"/>
                <a:ext cx="164628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701880" y="442908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enths means 1 decimal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08160" y="5827680"/>
                <a:ext cx="1044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rite a fraction or mixed number for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17600" y="1731960"/>
                <a:ext cx="20811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638520" y="176364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2 decimal places means hundred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184400" y="2397240"/>
                <a:ext cx="119376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2280" y="4383000"/>
                <a:ext cx="1790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701880" y="442908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1 decimal place means ten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52640" y="5124600"/>
                <a:ext cx="125244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rite a fraction or mixed number for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17600" y="1731960"/>
                <a:ext cx="20811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638520" y="176364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2 decimal places means hundred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4400" y="2397240"/>
                <a:ext cx="119376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69800" y="4383000"/>
                <a:ext cx="16938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701880" y="442908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1 decimal place means ten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100160" y="5124600"/>
                <a:ext cx="115560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79, 7 – 7 #1 – 16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81, 7 – 8 #1 – 1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6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12-17T18:42:40Z</dcterms:modified>
  <cp:revision>93</cp:revision>
  <dc:subject/>
  <dc:title>Slide 1</dc:title>
</cp:coreProperties>
</file>